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BF2D-4329-464E-83FA-0A7A0066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34C3-6767-45A4-A8DB-73E097F3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7345-EAAC-420D-85E5-4E6EB0EE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25BF-8731-4E55-8432-44C63DEB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5C72-0D84-4E41-B4D1-04DFCEB2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1F5E-AD3A-4387-9788-FD3CB796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08D0-FDE0-4AAF-856D-919367B9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B3D2-5C34-48C3-9F30-A0CB06DA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FE00-75C6-4545-985B-219811BD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6DCE-6476-41D8-911F-9FC5A1FA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4CBD-1219-4AC8-9219-321692B3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3176-9A2C-47CD-92AA-13300910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7A2C-1368-4C87-A98C-E63BE30A7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218930oKHvfCUQyf_ph" descr=""/>
          <p:cNvPicPr/>
          <p:nvPr/>
        </p:nvPicPr>
        <p:blipFill>
          <a:blip r:embed="rId2"/>
          <a:stretch/>
        </p:blipFill>
        <p:spPr>
          <a:xfrm>
            <a:off x="228600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80880"/>
            <a:ext cx="2057400" cy="89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قلتُ إني أُحافِظ على طُرُقي لِئلا أَخطأُ وأحفَظُ فمي مُلجما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ما دامَ المُنافِقُ أمامي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6257861dvzHEdJlPs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80880"/>
            <a:ext cx="88390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رجتُ ساكناً صمَتُّ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           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بِمعزِلٍ عن الخير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فهاجَ وجعي توهَّجَ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          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قلبي في داخلي</a:t>
            </a:r>
            <a:r>
              <a:rPr b="0" lang="ar-SA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6257881GtFSRoCSIN_ph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34320" y="457200"/>
            <a:ext cx="175248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في هذيذي اتقدت فيَّ نارٌ فأطلقتَ لِسان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1940193eoCHDP_ph" descr=""/>
          <p:cNvPicPr/>
          <p:nvPr/>
        </p:nvPicPr>
        <p:blipFill>
          <a:blip r:embed="rId1"/>
          <a:stretch/>
        </p:blipFill>
        <p:spPr>
          <a:xfrm>
            <a:off x="33526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380880"/>
            <a:ext cx="259092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والآنَ ما الذي أرجوهُ أيها السيدُ إنما أنتَ أملي أنقِذني من جميعِ مَعاصيَّ ولا تجعلني للأحمقِ عاراً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5324937uKhisKVkwI_ph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791320" y="380880"/>
            <a:ext cx="2895480" cy="88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د خرِستُ لم أفتح فمي لأنكَ أنتَ فعلتَ إصرف عني ضربتَ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فقد فنيتُ من بطشِ يدك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49165714WSZoyV_ph" descr=""/>
          <p:cNvPicPr/>
          <p:nvPr/>
        </p:nvPicPr>
        <p:blipFill>
          <a:blip r:embed="rId1"/>
          <a:stretch/>
        </p:blipFill>
        <p:spPr>
          <a:xfrm>
            <a:off x="-101520" y="0"/>
            <a:ext cx="61974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324480" y="380880"/>
            <a:ext cx="2819520" cy="9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إستمع صلاتي يا ربِ وأَصخْ لاستغاثتي ولا تصمُت عن دموعي فإني غريبٌ عندَك ونزيلٌ كجميعِ أبائي</a:t>
            </a:r>
            <a:r>
              <a:rPr b="1" lang="ar-SA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9:32:11Z</dcterms:created>
  <dc:creator>SUZANNE.MD</dc:creator>
  <dc:description/>
  <dc:language>en-US</dc:language>
  <cp:lastModifiedBy>USER</cp:lastModifiedBy>
  <dcterms:modified xsi:type="dcterms:W3CDTF">2003-01-28T15:11:25Z</dcterms:modified>
  <cp:revision>2</cp:revision>
  <dc:subject/>
  <dc:title>PowerPoint Presentation</dc:title>
</cp:coreProperties>
</file>